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715-B910-4B09-B2DF-8380CE55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A1A-DB15-4D39-AA38-484B61A9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076-444E-490A-8166-FCDCFE3B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3B9-2B93-4410-B096-AE335D2D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C284-211C-4375-A607-C3A46310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17B2-B5A3-4B0D-8982-E010B72A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4128-1079-4850-8FA7-B4246CED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9049-BC00-4689-BB1B-F920C69E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3AA0-07DB-4B55-ADE9-A2BCC849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662F-202F-4A6F-ABE5-7B3D0E2B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6F55-0EE8-4B63-9353-832BCFE7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F74-F9FF-419B-874B-CA841C47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A738-EF4C-4A99-A453-6C70B0AB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CF1F-28A8-4764-B808-E1C07A7B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D9ED-6DD6-42A5-A17A-63E0CD81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784C-FDB4-496F-95E1-5FB02459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1EA4-9B89-40F2-A706-07E41C60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F00-D483-4D62-87DD-0BBBCF1F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E0A-FA81-45EC-BCCC-B54482F7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C34-000F-4EC8-B4C0-5EA4396D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E1F-B4D0-40F1-B6FB-B482BC1F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EB8-1FB8-4114-B060-EF8F7977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F8F-466F-408B-B2D2-28FE432F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B60-3D31-4E56-9182-881D2EB7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417B-2001-48E9-96F6-17678F606B4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5466-26CA-49C4-8915-30E38E0E37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ВОЛЮЦИЯ-ЛОЖ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User</cp:lastModifiedBy>
  <dcterms:modified xsi:type="dcterms:W3CDTF">2012-06-16T07:59:47Z</dcterms:modified>
  <cp:revision>11</cp:revision>
  <dc:subject/>
  <dc:title>Слайд 1</dc:title>
</cp:coreProperties>
</file>